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D2D-7AF4-4913-B480-E832A15D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C38-7A20-4DA9-A035-641CA0E8F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D49-EE17-41FF-A3E2-D7483AE93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975-D258-4806-AAE7-E9BFFE725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D5F6-58D4-417E-9D8E-B990DA04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362-D68D-4777-B7EB-0E14B82F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5A7-86F0-4B81-8588-C5FE4A47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09FD-95E3-4EA5-894A-318F19EF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17D-0432-4FA5-B13F-134F8ACB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61FB-CF51-4E87-9FC3-F8782AB7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3AF-6032-41FD-9D23-96EAE2C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361A-D83F-47D4-8C1D-852F529F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0DED-9222-40C6-AA5E-3750C706E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JLAlcorn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a/a5/Kkk-carpetbagger-cartoon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wag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wags was a name given to southerners who didn’t support the Confed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ooperated with the slaves to rebuild the Sou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meant “scoundrel” or “worthless rascal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t came about: southerners thought scalawags were bad people for not supporting the confede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wags were already in the sou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ere non slave holding farmers or business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James L. Alcor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1143000"/>
            <a:ext cx="3845160" cy="487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638680" y="6172200"/>
            <a:ext cx="292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en.wikipedia.org/wiki/James_L._Al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6172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L. Alcorn (a scalawa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petbagg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-Carpetbaggers is a derogatory term that was given to northerners who traveled to the south for any reason. Although it was an insult some of them were really interested in helping the sla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he name came about: The name came from the carpet bags that they used to carry their posse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y were found by the Ku Klux Klan they were ki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petbaggers were greedy; they came to the south for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Kkk-carpetbagger-cartoo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295280"/>
            <a:ext cx="4419720" cy="4724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724280" y="62485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n.wikipedia.org/wiki/File:Kkk-carpetbagger-cartoon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by, Joyce et. al. (2003). The American Republic to 1877. New York: Glencoe/McGraw-Hi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Highways, Retrieved May 8, 2009, from Scalawags and Carpetbaggers Web site: http://www.u-s-history.com/pages/h240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8:58:04Z</dcterms:created>
  <dc:creator>cfisd</dc:creator>
  <dc:description/>
  <dc:language>en-US</dc:language>
  <cp:lastModifiedBy>cfisd</cp:lastModifiedBy>
  <dcterms:modified xsi:type="dcterms:W3CDTF">2009-05-08T18:56:25Z</dcterms:modified>
  <cp:revision>8</cp:revision>
  <dc:subject/>
  <dc:title>Slide 1</dc:title>
</cp:coreProperties>
</file>